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3A9FB-0D9C-4D7B-88CC-CD5670BB64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4D39-C125-42BD-88C6-A478AF177A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B9AE1-B182-49E2-AC7B-02B3F18DF4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362D9-2F33-4F43-8F76-621DEE7F1B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E19D-0361-4F86-9FF0-63DBA80145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D4173-58B4-4708-9C1A-E80DC6E7D6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F4A6E-DF2E-4B8C-9B43-3EAECC6C80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7AEFE-A939-46A9-B1BC-63A3A04514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8EA52-6432-4F32-906D-8E8C8C2FB9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1412-85C9-46C7-A483-FFC4EED46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2A9C-D960-4FBE-B2A9-D2B1D24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18FB-97B1-4CBF-B777-9801E24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06C8-2F06-4FD4-8C9B-A27D6CAA4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D279-C75C-4FF3-AB53-D79CD7B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0F21-EEAE-4EC7-8AC6-70EE50C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E780-ABFF-4448-A054-49216C1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C4B5-D10F-41C5-8759-BB49CA4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F4AF-1C84-4115-A4B5-ADCDCD82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FF7E-0917-4658-BD57-304DC69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5E29-7B1A-4373-B920-23D04FB1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9908-ABBF-4299-86AE-1656904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655C95-17FF-47DA-8053-37AFF971A65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34920" y="134784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especies de animales donde ambos sexos sólo se diferencian por sus órganos sexuales. Se dice que carecen de 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tos animales son los conejos, los gat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hanquetes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3492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nimales sin 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3060720" y="3189240"/>
            <a:ext cx="27622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512640" y="3168720"/>
            <a:ext cx="2762280" cy="264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1511280" y="574344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68720" y="5786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975280" y="3686040"/>
            <a:ext cx="2541600" cy="106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5940360" y="5003640"/>
            <a:ext cx="2519280" cy="12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335640" y="459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335640" y="600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nquete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1276200"/>
            <a:ext cx="7272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otras especies, ambos sexos poseen diferencias en su aspecto externo aparte de sus órganos sexuales; se dice que son especies co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imorfismo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especies con dimorfismo sexual s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lagartijas, los leones, muchas aves, los seres humano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079640" y="3600360"/>
            <a:ext cx="3960720" cy="23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219640" y="3600360"/>
            <a:ext cx="3075120" cy="211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720720" y="3600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419640" y="3240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cet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300720" y="3240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272360" y="5327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gartija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gunos casos de dimorfismo 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00000" y="6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Dimorfismo 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6 Imagen" descr="mirlo_bd.jpg"/>
          <p:cNvPicPr/>
          <p:nvPr/>
        </p:nvPicPr>
        <p:blipFill>
          <a:blip r:embed="rId2"/>
          <a:stretch/>
        </p:blipFill>
        <p:spPr>
          <a:xfrm>
            <a:off x="4859280" y="3573360"/>
            <a:ext cx="403380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14 Imagen" descr="faisan_bd.jpg"/>
          <p:cNvPicPr/>
          <p:nvPr/>
        </p:nvPicPr>
        <p:blipFill>
          <a:blip r:embed="rId3"/>
          <a:stretch/>
        </p:blipFill>
        <p:spPr>
          <a:xfrm>
            <a:off x="3995640" y="549360"/>
            <a:ext cx="4875480" cy="2752560"/>
          </a:xfrm>
          <a:prstGeom prst="rect">
            <a:avLst/>
          </a:prstGeom>
          <a:ln w="0">
            <a:noFill/>
          </a:ln>
        </p:spPr>
      </p:pic>
      <p:pic>
        <p:nvPicPr>
          <p:cNvPr id="98" name="15 Imagen" descr="ciervo_bd.jpg"/>
          <p:cNvPicPr/>
          <p:nvPr/>
        </p:nvPicPr>
        <p:blipFill>
          <a:blip r:embed="rId4"/>
          <a:stretch/>
        </p:blipFill>
        <p:spPr>
          <a:xfrm>
            <a:off x="324000" y="2565360"/>
            <a:ext cx="4444920" cy="3406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11280" y="24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43280" y="2852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v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08720" y="9079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1640" y="141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isán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hemb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364000" y="342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rlo ma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2:49Z</dcterms:modified>
  <cp:revision>46</cp:revision>
  <dc:subject/>
  <dc:title>Diapositiva 1</dc:title>
</cp:coreProperties>
</file>